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01F7-7590-4E34-84D9-F2F0B2CE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229-3C46-4E52-A780-FC52CF12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CCBCF-F8D9-4CCE-B3FD-13C611F5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9EC5C-1EFE-42C2-BE43-64F601BD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CA434-5383-4C89-86C2-E0E0F381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12932-2E41-477D-B4BD-CCF43C4D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217BE-88A5-4FC3-B3D5-AB0DF837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2C8AA-70F6-4FCB-9C31-2C45C182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A8E93-5F4D-4552-AC88-A0CF570B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0E7C8-8DCF-4834-8335-D693EA6E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E4D6A-AE40-44F4-BD2A-AF3FA428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9E3-0013-46B0-ACB8-64CD42C0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B7D-6A2E-4D19-9C26-B8ED18D9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7668-CAA8-4F48-9896-92F0C6DB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FB68-46E7-44EB-9827-FAE9B90D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8BD2-1A36-4DBF-B4BE-B5774B9A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8152-342E-47DB-A8CF-F1F804FA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20A0-718E-4E88-A89C-B54B285F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0ECD-7666-4E45-AF27-080DB238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38F3-C7F0-47A9-A00A-91EF58CF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E61-03DC-498B-9EA0-05A8326B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2118-A48D-45F0-8144-1BEE5F85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C0A2-4F26-4C42-8B1B-B5C26C20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7C04-E637-4612-AD17-BBCF4573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12B8-E074-4633-8B5D-73BDAB80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EA8E-9A33-411E-BF9C-DC593571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C2219-E045-4C77-8C40-E70384CD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27EDF-670D-4920-AE2F-65F114F2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78139-A188-4AD2-8510-8E7AFAD0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6B34C-3271-49E7-B806-16EA0A14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CF1A7-5FB9-48AD-BAEB-4AC51FF9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90E1-21F5-4C24-8678-2B1DD41A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37E1E-30B6-4AC1-A042-45DCAF4B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1E4DA-9EA9-4C35-A6C2-4797F084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D8CF0-5907-42BE-A499-F6FFBA39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A14C9-42B1-4EE5-9EFF-E8DE3ABE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1A9DB-261C-41FC-937D-3C954D5A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CFCA5-D275-47E7-B751-52055CA5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64C70-068E-4BAD-B22C-3D05AB7B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B6631-975E-4FCF-952E-7FF6EABB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14767-093D-4035-884B-BD201477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57CB5-D8A3-42A0-8620-FC990092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B26C-C39F-4A63-B936-E283AD02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5859C-DEC8-474A-9A8C-F7E7B2BF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17A84-718E-47A0-BC95-3F041DFF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8338F-44BD-4253-B51A-E53A05AA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EDFFF-B82D-4337-943E-67EDEAE4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EE828-61C4-481E-840E-B8636640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503CC-B801-479E-A782-29B2EA74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180CB-FEB0-4088-94B7-2C8AEA94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CCF92-0D1D-4A0F-87A8-5FFF8EA7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FEB7D-2134-481C-AB19-B4FDA722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E41D4-2EAA-4A54-9B90-5244E68C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A36-5311-43F6-B183-E8BA7B42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ACD39-BF18-492F-837F-399F809C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7ABA2-4146-428F-97F1-264CE199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F5C5D-62E8-4D1B-8F56-9C97E2A8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E4126-D8DA-401F-91CC-74DB75D0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681C6-FBA2-48E8-9A0B-00698471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1D834-F91B-4CD2-A220-FCC9A268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76581-1983-4D13-A0E7-B8D21919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79351-3B72-4428-B8C1-F6A5DD76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9C02C-D7EF-41E4-93A0-56BCE057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8C5B6-9B73-466F-9EBE-11C2B099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1B8-DF93-4B9E-9BF5-CBBAA5C6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9FF55-FD5F-43E5-9175-D8893D23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EEC1C-825B-4720-A201-40919BD0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649A1-E043-4EBF-B570-0CB04208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D56F0-1AD5-4C1D-8441-0FA6D633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5D048-F307-4911-8A92-45F64B8A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980B6-9DEB-41A9-8EBC-F8D3B221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EACEE-7BB9-41FE-BF68-9FEC67C9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D2D09-1093-4EAC-BE93-C9C24C50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8598B-5F93-4A23-A1E1-25E0ED97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4D99F-1FA8-4FB9-BD7D-AC76A87C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897D-AE19-4C18-8F70-B1DD553F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27238-0F33-4172-9377-20D38BAA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0E3AC-F855-42DB-86DD-EE854EA6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F4952-A15F-482D-918E-2B59459A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18A75-7AD9-439C-9DB9-4F132F03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F5FE7-9098-40EE-87A2-4EE23425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82DA3-5B13-41FF-BEE2-5AD7DD7F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3782E-3F1B-4E39-91EB-A3EF9571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22654-BF3E-4588-9B54-BE0531B3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93D8C-1E22-48E0-8E02-A2F22B6D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A54D5-5DB6-4423-8A24-EBED6CE6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118-915D-42D1-B8E2-87B6F16A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211F2-AC78-4C32-8D95-EE0A5A04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A4FCF-17BA-4E87-BECE-AF85FF31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ACCC8-3D49-4216-9E80-C233FB77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E2640-C294-4A0E-BFAA-25FF858D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737A6-9281-45F9-AACE-74AC9A6C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EDD94-262C-4E7E-B778-38FFDFB8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78E3B-D8A9-4240-B7D8-C6B4C726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179EA-394E-4FC8-B6EC-2FEF3F2E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84CE8-3D2E-4027-8535-6C04806C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C9F28-9518-495F-ABA5-5123D54A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4AC-4FE7-4CD3-9F82-B38EFEB5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12A8D-41EF-484F-A168-DE44B5B5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79E39-7D3A-4E0E-891F-1A0DCA58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9CE0C-4054-4169-B8B3-C0D4704F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E7F8C-494D-44B9-9339-8ED5AA5D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51292-2BA3-4C34-A142-DCD152AE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2FC99-DA45-4EC1-84B7-30BEB91C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E5E25-C3C4-43EF-9A11-C9B6F493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E3E34-D2E2-4C76-ACD6-D3EB4E11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69E1C-F2F4-485F-8DBB-50517B49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B6389-342B-47A4-9A26-A4B7829B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1605-CD19-4F2D-8840-FF551C62A37B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ector reto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E0C7-E0E9-4390-B240-6D8599908742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16C8-72EE-4F5C-837A-B91A7BA88926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ector reto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FB29-2A4F-4BCC-95A7-7860E00DC057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ector reto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BCC9-A354-4A36-90B4-6C3B3A222BCD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6BF8-AF95-4797-AE6C-7992F751137D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ector reto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CFBA-21F5-40D1-8770-1FE4D5B234EF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C0FA-3695-47ED-9201-8031430CEC67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9CD8-95C7-4339-A636-40E0651248AD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ítulo 3" descr=""/>
          <p:cNvPicPr/>
          <p:nvPr/>
        </p:nvPicPr>
        <p:blipFill>
          <a:blip r:embed="rId1"/>
          <a:stretch/>
        </p:blipFill>
        <p:spPr>
          <a:xfrm>
            <a:off x="-115920" y="-79200"/>
            <a:ext cx="948528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tângulo 1"/>
          <p:cNvSpPr/>
          <p:nvPr/>
        </p:nvSpPr>
        <p:spPr>
          <a:xfrm>
            <a:off x="214200" y="285840"/>
            <a:ext cx="82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ossibilidades de avaliação com uso das TIC na EEJ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tângulo 2"/>
          <p:cNvSpPr/>
          <p:nvPr/>
        </p:nvSpPr>
        <p:spPr>
          <a:xfrm>
            <a:off x="214200" y="1428840"/>
            <a:ext cx="87156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Utilização do blog - professor disponibiliza  links para que o aluno desenvolva a atividad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esquisa orientada – o professor orienta o aluno durante a pesquisa na STE, solicitando o registro em slides/vídeos/síntes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Utilização da lousa digital interativa – material previamente preparado pelo professor, da internet ou ainda o próprio material disponível no recur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des Sociais –  grupos no facebook , onde o professor disponibiliza atividades, bem como todo o material de apoio ao alun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tângulo 1"/>
          <p:cNvSpPr/>
          <p:nvPr/>
        </p:nvSpPr>
        <p:spPr>
          <a:xfrm>
            <a:off x="357120" y="14292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scrição de duas situações de avaliação na EEJAR com uso das 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tângulo 2"/>
          <p:cNvSpPr/>
          <p:nvPr/>
        </p:nvSpPr>
        <p:spPr>
          <a:xfrm>
            <a:off x="500040" y="1643040"/>
            <a:ext cx="81439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@ Pesquisa orientada – avalia-se durante a pesquisa e também na apresentação final que acontece para toda a turma, seja do vídeo ou dos slid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@ Uso do facebook – comentários dos alunos sobre conteúdos disponibilizados pelo profess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tângulo 1"/>
          <p:cNvSpPr/>
          <p:nvPr/>
        </p:nvSpPr>
        <p:spPr>
          <a:xfrm>
            <a:off x="285840" y="285840"/>
            <a:ext cx="8572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rientações aos professores regentes da EEJAR a fim de melhorar a avaliação formativa com uso das TIC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tângulo 2"/>
          <p:cNvSpPr/>
          <p:nvPr/>
        </p:nvSpPr>
        <p:spPr>
          <a:xfrm>
            <a:off x="500040" y="2071800"/>
            <a:ext cx="81439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@ Propor atividades que instiguem a produção/interação do alun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@ Divulgar as propostas que deram bons resultados para toda a comunidade escolar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@ Delimitar conteúdo durante a pesquisa orientada e indicar fontes segura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@ Dar o feedback das atividades solicitada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@ Propor atividades interdisciplinares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22:06:07Z</dcterms:created>
  <dc:creator>Aluno</dc:creator>
  <dc:description/>
  <dc:language>en-US</dc:language>
  <cp:lastModifiedBy>PARTICULAR</cp:lastModifiedBy>
  <dcterms:modified xsi:type="dcterms:W3CDTF">2015-09-01T00:19:33Z</dcterms:modified>
  <cp:revision>14</cp:revision>
  <dc:subject/>
  <dc:title>Escola Estadual José Alves Ribeiro Rochedo/MS   GED – NTE Regional   Tema 25 - Avaliação de aprendizagem e os recursos tecnológicos   PROGETEC: Rosiley Pereira Alves</dc:title>
</cp:coreProperties>
</file>